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A1E2-96D6-47F6-8B04-1797FCAB92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DA54-F25E-45A6-B771-8C78843AE4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78D-E1C1-43DD-953A-2AD01E9686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671-C19F-41CD-932A-34D592EDC4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45A-AC04-4205-B5EB-201344718E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18A-2F70-48B2-B0CF-8C1942A020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CFF-D218-4FF0-B0EC-92A7393D41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0CD6-B450-4224-8F29-25A4A8CEE1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6D2-A9ED-42FC-9750-C46925BF45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3B8-5A95-42D2-B45C-A3D41B1013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3FA4-F0DA-420E-8F1C-C700CCA03F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CD51-194F-481B-8307-F47967CC82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129-5D5C-4AB4-946D-D045122816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9CB-31C0-4B5A-AD30-604F651C4B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AEA-BD5C-4D39-A669-1A0A09DC6F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349-7DB1-4F8F-888C-6036BCA9CB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ABCD-38DE-4E71-ABAA-B9B0B13F84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9B7-6FD6-434A-AE33-A116E23153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56F-999C-4C61-B6BF-0E04441EF9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81C7-8188-44A7-AACB-2E1C86FB61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4CF8-ACD8-4CE8-85C4-2670E1BCDF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8EB4-F4C6-42AF-82ED-F8F53EBE64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6D6-6A5E-428D-A9CC-80E1E3E864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AF57-5CAE-4C82-A4C5-2F3BF065CF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897-7CFD-4394-824A-197BAD4D55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EDB-9E88-4DCB-A133-F779A4DC35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783-5101-4E92-B484-481007FA5C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F792-9201-4547-B48E-204A7AD4E1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7E8-74A0-4F2E-953F-1FB42F7F88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FC7-1706-492F-8296-E8B4D26F53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030-07F3-4E10-9443-80346B2B3F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1408-2769-462A-BAE6-59A1117752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EB8-B146-4DDC-931F-3491EBE601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50B-A18A-47D1-8EBD-10196A21DA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AF3-FCDC-4C6C-BAAF-CA70A9AAE5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EBE-BEF7-4F78-BAE8-07FCA2C20C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039-6954-41EC-9DE0-ECD27944BF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CBA-CFF1-4641-AEA7-2EDCE6A4C6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325-7B9F-4699-8733-03BFEEBE23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06E8-C8B7-4C8E-8174-02AD4939BF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973-1456-4BC2-B19C-DAB25DF272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AAB-2D62-4700-98AF-A79B258FAD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9458-0DA2-4F46-8E44-C8FE555272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CA5-0DAE-4F71-8855-7C930743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041-31A4-4887-8051-5E56CD6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34D-83BC-4447-96E8-45836906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C04-C0F0-4C20-8F7E-09CF6202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F11-A02E-4222-A555-06DE676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2F7-1C74-42F2-A8F0-A7F69D4E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0C2-15E5-4362-9D86-E4B8EFC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6F6-143F-4A85-9398-21AC511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69D-A0C0-49D2-96F7-44482D9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3F4-0FF8-4103-88F7-E81A31F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AC0-5F75-43B5-B40D-B70A8D3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C68-921C-4EB3-8F5C-6EEC291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BB0E-C5DB-426F-B4F0-B9F436E608B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麻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f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찮게 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调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500" spc="-1" strike="noStrike">
                <a:solidFill>
                  <a:srgbClr val="000000"/>
                </a:solidFill>
                <a:latin typeface="Arial"/>
              </a:rPr>
              <a:t>diàochá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ǎolù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토론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엘리베이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xi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'ě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d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j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d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뿐만 아니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i</a:t>
            </a: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와이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지명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d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발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q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게다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nj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깨끗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ǐyò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交通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jiāotōngkǎ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통카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单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ānché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极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 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매우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몹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充值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ōng</a:t>
            </a: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zhí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충전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bàom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청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l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东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ng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聪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ōngm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총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不好意思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ùhǎoyìs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미안합니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ā'ěrbī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얼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검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어둡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교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목이 마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부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南京东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16392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然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án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리고 나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g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대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15:39Z</dcterms:created>
  <dc:creator>System</dc:creator>
  <dc:description/>
  <dc:language>en-US</dc:language>
  <cp:lastModifiedBy>System</cp:lastModifiedBy>
  <dcterms:modified xsi:type="dcterms:W3CDTF">2014-01-27T08:56:43Z</dcterms:modified>
  <cp:revision>6</cp:revision>
  <dc:subject/>
  <dc:title>슬라이드 1</dc:title>
</cp:coreProperties>
</file>